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80396"/>
        <c:axId val="69304707"/>
      </c:barChart>
      <c:catAx>
        <c:axId val="63280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04707"/>
        <c:crosses val="autoZero"/>
        <c:auto val="1"/>
        <c:lblAlgn val="ctr"/>
        <c:lblOffset val="100"/>
        <c:noMultiLvlLbl val="0"/>
      </c:catAx>
      <c:valAx>
        <c:axId val="69304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80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80D-498F-419D-98DF-68B451CD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9C6-9D8B-42AE-A46B-453EDD15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087-87DD-4AAE-9A51-8419AE4A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51AF-A8B1-435A-BDC1-5C5CB9DF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23F-35FD-4512-9257-5D10F206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879-245A-45DF-9CD4-AFF2361D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562-B932-49E1-8753-212A6D6B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F62-1A78-485E-B594-1BEB966C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09D-7462-46A7-9BC3-26B1056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2E0-7C81-47B4-8E68-39D28DBA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96B-E0DF-44EB-BC1E-CC69E053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776-856E-4E64-A118-E043F66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364B9-35D9-4824-ABC6-D29E120C7E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