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15628"/>
        <c:axId val="57563693"/>
      </c:barChart>
      <c:catAx>
        <c:axId val="90115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63693"/>
        <c:crosses val="autoZero"/>
        <c:auto val="1"/>
        <c:lblAlgn val="ctr"/>
        <c:lblOffset val="100"/>
        <c:noMultiLvlLbl val="0"/>
      </c:catAx>
      <c:valAx>
        <c:axId val="57563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15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70A-BDBC-486C-A028-0364422D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DA5-8A4D-480A-B524-8C24FCA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42E-25A2-40BA-837D-889EC62B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820-B4D5-456C-B395-F9C3C7DD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CDD-FCD0-42C3-B18F-11224B04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CB5-777D-40AE-9E3D-F8494188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B58-39F9-4A26-9811-0E00F10F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13F-99EA-4F5C-A175-D42E675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729-341D-4A95-88FE-C2D174E2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91F-EDE2-447D-A9EA-DA5A2B2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B56-4D89-4A32-8C47-AD15EDA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CEB-027A-4C01-8EEA-432A7A2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36955-9C23-4095-A4E4-D0463986A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