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45801"/>
        <c:axId val="65819119"/>
      </c:barChart>
      <c:catAx>
        <c:axId val="53045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19119"/>
        <c:crosses val="autoZero"/>
        <c:auto val="1"/>
        <c:lblAlgn val="ctr"/>
        <c:lblOffset val="100"/>
        <c:noMultiLvlLbl val="0"/>
      </c:catAx>
      <c:valAx>
        <c:axId val="65819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45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C78-B5D8-4991-88F5-56239DFF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DA7-AF56-4044-9049-9003399C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D5F-166E-4285-8A7C-C53538DD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392-0D0D-4089-9EDD-1F91E577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F3C-2D85-40C4-9D5D-DB9B35FF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B37-9F81-4D49-8E74-DCE29A9B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E8F-41C8-4813-8493-39909DDE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0F1-8B54-4F07-85A7-FC5DFC5F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85C-E687-49BC-B150-6D8421E8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901-82A5-49CE-AE1A-442DC14D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9EF-D7D2-42B7-9A23-DE0C9446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BC7-552F-4EAD-BC6D-17454EE6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DFB89-DCC1-48D1-959C-173AC14638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