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264"/>
        <c:axId val="79100948"/>
      </c:barChart>
      <c:catAx>
        <c:axId val="7442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00948"/>
        <c:crosses val="autoZero"/>
        <c:auto val="1"/>
        <c:lblAlgn val="ctr"/>
        <c:lblOffset val="100"/>
        <c:noMultiLvlLbl val="0"/>
      </c:catAx>
      <c:valAx>
        <c:axId val="79100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2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30F-F894-4BB3-905F-416C9CF77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F8C6-35A8-4EC0-B261-8FDB0C3F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7E4-EF1F-472A-BD03-D039DD5A5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134B-3C8A-4325-8939-B797B37B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331-97F6-462A-AD9E-62B5EEAA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7C6-A5D7-4147-99E6-6AEBBCBB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D0C9-13AB-48A9-8D0C-D59E102A9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1277-E0A0-4D2F-9B86-4DFCFF69F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23A-FF6A-471F-A8A9-BA02E69E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F8F7-4C37-48A3-9350-6A753C37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180-EAF7-4A22-AB2D-913C33C0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0BFF-9AA2-42C6-B06D-0ACCCF3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BD949D-F624-4AC3-9BE3-EEED85F43B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