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02592"/>
        <c:axId val="53381301"/>
      </c:barChart>
      <c:catAx>
        <c:axId val="34802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81301"/>
        <c:crosses val="autoZero"/>
        <c:auto val="1"/>
        <c:lblAlgn val="ctr"/>
        <c:lblOffset val="100"/>
        <c:noMultiLvlLbl val="0"/>
      </c:catAx>
      <c:valAx>
        <c:axId val="53381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02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883-D03B-4847-834D-C40C1515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780-080C-4188-841D-77601F4F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6E7-CA13-4ADE-9A69-228F2081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713-D1D4-4994-B67A-C16D71AD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AEA-0F65-4933-BF42-53A3F07C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A15-EFD5-4AE2-9E05-37C8F32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B7C-5957-43D8-94D1-780D659E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F39-11FF-4F58-ABB0-6459622E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15A-92B7-4046-93A3-EA6EA6A2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3C0-68FE-4D4D-A0F9-AABE7B8F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F85-259D-46CD-927D-C32844F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F4E-A840-42D3-B274-AB02572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9996B-5176-4C4A-ABDA-E0D0338EE7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