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07918"/>
        <c:axId val="75859402"/>
      </c:barChart>
      <c:catAx>
        <c:axId val="41807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59402"/>
        <c:crosses val="autoZero"/>
        <c:auto val="1"/>
        <c:lblAlgn val="ctr"/>
        <c:lblOffset val="100"/>
        <c:noMultiLvlLbl val="0"/>
      </c:catAx>
      <c:valAx>
        <c:axId val="75859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07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A36-9E02-42AC-B108-F447A228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9A3-8A5A-4936-9B13-274F609D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DB8-5251-44E3-8353-DE798CCE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175-D526-4795-BF12-AC9D4A25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CD5-CE09-466F-9C71-46777D0C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24D-D70F-4739-9EF5-556E44E6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4D4-82B8-4D9C-B059-136AD96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A76-BA31-45CF-97C1-BFAB204D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4D4-7969-4A5E-B3BB-5B513CCC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CC1-4E76-4F81-AF91-F8BD9EC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C39-085B-4991-9AEC-007F8072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32D-9D1D-4818-BB94-CCAA50B7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91127-6003-439B-99CA-81F89A0915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