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87588"/>
        <c:axId val="4133720"/>
      </c:barChart>
      <c:catAx>
        <c:axId val="27687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720"/>
        <c:crosses val="autoZero"/>
        <c:auto val="1"/>
        <c:lblAlgn val="ctr"/>
        <c:lblOffset val="100"/>
        <c:noMultiLvlLbl val="0"/>
      </c:catAx>
      <c:valAx>
        <c:axId val="4133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7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D0C-3CCC-4385-A341-002D9424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D6D-5B5A-4AF5-BB1B-071B0C7C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1B3-20DA-4C04-B72D-173EADC2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E3C-B9A7-408C-A768-6AC394EF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81F-AB4E-465E-A9BD-2EAB18F5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B3C-D05B-4DDE-A1D4-726F9C15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F0B-FF8C-4650-B241-31AAF942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8E9-6479-40D7-BCCA-EBFD602A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632-A6E4-4019-8352-5D1BCDF6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692-DCEA-4377-87F5-4B9223A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971-3138-472E-A682-797DFB7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27F-B996-4E3D-8811-1ABE28C5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10892-F824-4B4F-8348-5D1B38423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