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59700"/>
        <c:axId val="66029209"/>
      </c:barChart>
      <c:catAx>
        <c:axId val="50659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29209"/>
        <c:crosses val="autoZero"/>
        <c:auto val="1"/>
        <c:lblAlgn val="ctr"/>
        <c:lblOffset val="100"/>
        <c:noMultiLvlLbl val="0"/>
      </c:catAx>
      <c:valAx>
        <c:axId val="66029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59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FF4-4FC4-4556-8238-CBC6D313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EF7-EB52-432B-8C4F-2D2CF2F6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485-2CC3-4520-978D-7A68D5B1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041-D4A6-4E96-89E4-683F0D1A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1B2-01D6-4640-909E-D87DFA6A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4CA-7C3B-4B09-8413-A4ECC932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B62-C94A-4D72-8DB2-75A09470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E70-839B-4264-9B2C-7AAA50D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12F-F9FC-4967-9189-44A91F3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D79-F47A-4DA4-BA23-E45F1E38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14E-B3E7-4789-8FEE-778D9F1C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D27-042D-4CE2-9EB9-F9B2E793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0F006-07DD-4D80-8BC7-7EACEDA787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