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57977"/>
        <c:axId val="55224804"/>
      </c:barChart>
      <c:catAx>
        <c:axId val="92457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24804"/>
        <c:crosses val="autoZero"/>
        <c:auto val="1"/>
        <c:lblAlgn val="ctr"/>
        <c:lblOffset val="100"/>
        <c:noMultiLvlLbl val="0"/>
      </c:catAx>
      <c:valAx>
        <c:axId val="55224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57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70D-9FDC-4F1D-8AE5-4E17971E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4AF-6201-41D3-94A3-07EF1BA4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D5FE-9AC6-4270-8CA9-98950A48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DA3-DE24-4722-8FCA-8C2973C4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5925-285D-4CA5-B360-55951CAB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F29-7DFE-47BB-B1D7-5B09D8E3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876-08D5-47B1-ABDC-E62AEF76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F82-0BD0-4E86-831C-069477E8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446-F5B0-464F-8DEF-137BE42A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3E8A-924B-4D92-855F-6F09E0EA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7EE-E16A-48F2-95EB-FC124B1B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DAC3-7FCE-4015-ADB4-EB3AE686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76FA7-BD3A-4A31-976A-E049C18D12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